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0EF-5C27-4C64-9858-71B823D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78EC-0839-4A09-804B-10EF31F8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8B7-7B57-4C5A-AF99-E02D63A6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310-1FFA-4C51-839B-4EC31C7F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CA31-EE7F-487C-B2B1-131CA9A4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A2ED-A605-41DA-939E-8507ABF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67ED-F767-4397-A4EF-8679E85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3934-D9BE-4706-95FC-5C52E840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1F0-16DB-40B6-934F-28B72428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9E3F-7A41-4AB9-875F-4ED25519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D299-83AB-49F5-A379-39AAD826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393-3DF8-4976-9404-9D6202A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5EF4-1665-48D3-AA97-89A8648E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F702-C9A6-4F9E-8327-C444A777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58AE-C1EA-4601-B5F2-1F6A3910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98DF-8D40-4F60-A6DE-A1637746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EE2C-01D7-4E84-87F2-ACE3FF1A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D07D-8E2C-4BCE-9988-49C5D9D4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39AB-E7F0-4E88-BA14-C495E328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270EA-82A7-43EF-A29F-99E726B1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7010-5F38-4B9F-BF50-2C0F211D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F38B2-100E-417D-A664-ECD6144E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8EA9-340E-4067-AC52-6CBCE348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5E2C6-3C5E-4D02-AF6C-6D39F018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3F50-40BF-4F65-91F2-ACC2031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EC294-20B4-41ED-85DA-78D004D2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B9F76-1305-4D9D-911D-D640C02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3548B-8FBB-4CB4-852B-1BA81035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8AD9-81D3-4CB6-A02E-419A5159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497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22920" y="16761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765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497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22920" y="39448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29D82-AB34-4A2C-B8B4-9EF9E287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03C-C17A-4082-AAE7-C1E0BF51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E88-F9EE-4DE4-AEF7-41C322F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199800"/>
            <a:ext cx="7300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345-1F2D-426A-B4AE-5A5000E3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D51-5C45-41CD-96AA-C519E9A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5200" y="39448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7B0-A6CF-4D07-AB06-ACE0EB6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5200" y="16761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520" y="39448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644-ACB7-41BB-9F93-C3936F5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D599-CF53-492D-8161-115400203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FA4-B9EE-47C8-9885-D1324366A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17CA-F279-4C81-865B-9A486A314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S Tech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ould I use Movie Maker with my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take a post it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content ar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your ideas – how could you use this in your cla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ry out Windows Movie Mak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media can I 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62920" y="685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352680" y="4800600"/>
            <a:ext cx="20574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elements of Storyt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ing your story from one perspe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atic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hook, the opening statement that draws in the audi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tional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art of the story to which others can rel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narrator can give the story personality and make it better than using text al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nd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enhance the story establish the mood if chosen wis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ing your script brief makes the writer focus on maintaining the central focus of the s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hythm of the story determines much of what holds and audience’s inter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199800"/>
            <a:ext cx="73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orybo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520" y="16761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ryboard is a series of diagrams that are used to depict the composition of a video seg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used by designers to illustrate and organize their ideas and obtain feedbac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particularly useful planning for multi-media pres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5:45:54Z</dcterms:created>
  <dc:creator>Nicole</dc:creator>
  <dc:description/>
  <cp:keywords/>
  <dc:language>en-US</dc:language>
  <cp:lastModifiedBy>Nicole</cp:lastModifiedBy>
  <dcterms:modified xsi:type="dcterms:W3CDTF">2009-08-28T01:01:54Z</dcterms:modified>
  <cp:revision>10</cp:revision>
  <dc:subject/>
  <dc:title>Windows Movie Mak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85661033</vt:lpwstr>
  </property>
</Properties>
</file>